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1A9-7978-4399-8BD3-AFAB722E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6193-BC05-4999-B5AF-2CF313CF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6796-80A6-4E10-84B7-FF6B903F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1661-8570-4E8C-963F-08075C01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F4A0-FC81-4846-AAA0-329E0ECB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D344-EE89-47F6-852E-9051E7AE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E685-A441-47BB-98A5-E66937BF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C1D3-34AC-43BE-A85A-AC9D2486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2208-9827-4C76-AA64-99AB7DCE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74F5-E96A-4BC4-A4A1-628D8AAC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A45B-F910-4958-8F9A-062D4915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3D65-2E19-43DD-B0B9-5B908D52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C21B-BE55-4F61-9FAC-1DC181ED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DA78-2CC1-4567-B97D-5181D4FB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663B-B438-4C31-AE17-8A495AFD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AAED-FA8C-486D-909B-4183FC95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25D7-8DD1-4217-B0C9-DD0E43B8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BD66-0462-4E2F-A1E0-76D0BBC7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A03F-ED4B-4140-9BE7-DD37280B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A6DF-AC62-4CFE-A8BA-05F6835A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9C4C-9417-4717-8669-059C9BD6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8993-3EA1-4114-8B90-379105DE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9DF7-8E42-46E3-8308-C650D188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865A-03A8-462C-8FA3-D0EDD68D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129B-DA92-463F-A857-D33BCEF8A83F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BFD9-43D8-4128-A5D9-9A86E2BE8B8B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igglepoetry.com/" TargetMode="External"/><Relationship Id="rId3" Type="http://schemas.openxmlformats.org/officeDocument/2006/relationships/hyperlink" Target="http://www.gigglepoetry.com/" TargetMode="External"/><Relationship Id="rId4" Type="http://schemas.openxmlformats.org/officeDocument/2006/relationships/hyperlink" Target="http://www.gigglepoetry.com/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poetryarchive.org/childrensarchive/home.do" TargetMode="External"/><Relationship Id="rId7" Type="http://schemas.openxmlformats.org/officeDocument/2006/relationships/hyperlink" Target="http://www.poetryarchive.org/childrensarchive/home.do" TargetMode="External"/><Relationship Id="rId8" Type="http://schemas.openxmlformats.org/officeDocument/2006/relationships/hyperlink" Target="http://www.poetryarchive.org/childrensarchive/home.do" TargetMode="External"/><Relationship Id="rId9" Type="http://schemas.openxmlformats.org/officeDocument/2006/relationships/hyperlink" Target="http://www.poetryarchive.org/childrensarchive/home.do" TargetMode="External"/><Relationship Id="rId10" Type="http://schemas.openxmlformats.org/officeDocument/2006/relationships/hyperlink" Target="http://www.poetryarchive.org/childrensarchive/home.do" TargetMode="External"/><Relationship Id="rId11" Type="http://schemas.openxmlformats.org/officeDocument/2006/relationships/image" Target="../media/image2.png"/><Relationship Id="rId12" Type="http://schemas.openxmlformats.org/officeDocument/2006/relationships/hyperlink" Target="http://www.childrenspoetrybookshelf.co.uk/%0Bflashgames/words.html" TargetMode="External"/><Relationship Id="rId13" Type="http://schemas.openxmlformats.org/officeDocument/2006/relationships/image" Target="../media/image2.png"/><Relationship Id="rId14" Type="http://schemas.openxmlformats.org/officeDocument/2006/relationships/hyperlink" Target="http://www.magneticpoetry.com/kidspoetry/playonline.cfm" TargetMode="External"/><Relationship Id="rId15" Type="http://schemas.openxmlformats.org/officeDocument/2006/relationships/hyperlink" Target="http://www.magneticpoetry.com/kidspoetry/playonline.cfm" TargetMode="External"/><Relationship Id="rId16" Type="http://schemas.openxmlformats.org/officeDocument/2006/relationships/hyperlink" Target="http://www.magneticpoetry.com/kidspoetry/playonline.cfm" TargetMode="External"/><Relationship Id="rId17" Type="http://schemas.openxmlformats.org/officeDocument/2006/relationships/hyperlink" Target="http://www.magneticpoetry.com/kidspoetry/playonline.cfm" TargetMode="External"/><Relationship Id="rId18" Type="http://schemas.openxmlformats.org/officeDocument/2006/relationships/hyperlink" Target="http://www.magneticpoetry.com/kidspoetry/playonline.cfm" TargetMode="External"/><Relationship Id="rId19" Type="http://schemas.openxmlformats.org/officeDocument/2006/relationships/image" Target="../media/image2.png"/><Relationship Id="rId20" Type="http://schemas.openxmlformats.org/officeDocument/2006/relationships/hyperlink" Target="http://www.shockedpoetry.com/index.html" TargetMode="External"/><Relationship Id="rId21" Type="http://schemas.openxmlformats.org/officeDocument/2006/relationships/hyperlink" Target="http://www.shockedpoetry.com/index.html" TargetMode="External"/><Relationship Id="rId22" Type="http://schemas.openxmlformats.org/officeDocument/2006/relationships/hyperlink" Target="http://www.shockedpoetry.com/index.html" TargetMode="External"/><Relationship Id="rId2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xploring Poetry for Children with Embedded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trategy Instru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5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38080" y="2438280"/>
            <a:ext cx="7391520" cy="1600200"/>
          </a:xfrm>
          <a:prstGeom prst="rect">
            <a:avLst/>
          </a:prstGeom>
          <a:solidFill>
            <a:srgbClr val="4df47b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Metacognitive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eaching Fra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1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nk Alou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Introduc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, and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Defin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Strategy Componen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Notic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apply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strategy componen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Clarify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strategy purpos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2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fine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small and whole group practice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3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Let Strategy Use Gel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apply in literature circles and content area studies)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4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elf-assessment/goal sett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flect, monitor, and increase use of strategi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86600" y="6308640"/>
            <a:ext cx="34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Kelly &amp; Clausen-Grace, 2007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ink back to your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Quick Writ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d you find it difficult to think aloud in front of someone else? Why or why not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d thinking aloud help increase your own understanding of the text? Why/how or why not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Would it help to have a “think-aloud plan” when modeling strategy use for students?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might a “think-aloud plan” look like? 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e your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handout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for an example of thinking aloud about Monitoring and Clarifying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e each chapter of the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Kelly &amp; Clausen-Grace book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for other examples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e thinking…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you will be asked to create a few of these script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for your book activities and to share/try out your scripts in class.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Think-Aloud</a:t>
            </a: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Monitor and Clarify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(Embedded with Poetry)</a:t>
            </a:r>
            <a:endParaRPr b="0" lang="en-US" sz="2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Introduc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Explain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, and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Defin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e handout 1 for a model/scrip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Notic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Apply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- 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Who Hath A Book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e handout 2 for a model/scrip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Your turn to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Notic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Apply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as you read T.S. Eliot’s 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Macavity: The Mystery C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Drafting a Think-Aloud Pla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ad through the poem and underline places to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monitor and clarify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raft a think-aloud of your fix-up strategies and label it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NK 1 (T1)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in notes &amp; on poem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raft a student response where they “noticed” what you did.  Label it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tudent 1 (S1)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in notes &amp; on poem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ntinue this process with T2/S2; T3/S3; etc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e prepared to share with your partner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25905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To summarize…</a:t>
            </a:r>
            <a:br>
              <a:rPr sz="4000"/>
            </a:b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Why is it effective to blend </a:t>
            </a: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reader response</a:t>
            </a: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 to literature and </a:t>
            </a: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cognitive</a:t>
            </a: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strategy instruction</a:t>
            </a: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 to teach your students how to comprehend what they read?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Benefits of Reader Response View of Literature &amp; Teaching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xperience reading succes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eet diverse need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ecome risk taker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ssume responsibility for learn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ake personal connection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ncourage higher-level think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Understand reading as a proces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ppreciate literary quality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70760" y="632448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Hancock, 2008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00"/>
                </a:solidFill>
                <a:latin typeface="Arial"/>
              </a:rPr>
              <a:t>Benefits of Using the Metacognitive Teaching Framework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promotes discussion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provides a common language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makes strategy use explicit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provides a routine to help students connect the range of reading strategie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is not text-dependent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helps ALL readers comprehend better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develops a bonded community of literacy learners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86600" y="6308640"/>
            <a:ext cx="34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Kelly &amp; Clausen-Grace, 2007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enre: Chapter 5 Poetry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enre: Chapter 11 Literature as a Model for Writ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xtra Credit: Explore one of the poetry websites and post a comment on the wikispace - it’s EASY!! :-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view questions from reading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ppreciate the use of poetry in the elementary classroom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ecome familiar with elements of poetry, poets, &amp; online resourc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earn and practice how to embed strategy instruction into poetry readings using a metacognitive framework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articipate in a Poetry Workshop (Book Activity #1) &amp; publish your poem on a wiki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o begin…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What questions do you have from your readings?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Our class website/wikispace </a:t>
            </a:r>
            <a:br>
              <a:rPr sz="3200"/>
            </a:b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5uri.wikispaces.com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he Wonder of Poetr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oems can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children (old and young) into your classroom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without overwhelming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those who struggle with reading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oems can communicate implicit messages about your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classroom cultur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oems can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boost self-esteem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and provide space to laugh about our difference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opular Poets for Childre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hel Silverstei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.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Where the Sidewalk Ends;  A Light in the Attic.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Jack Prelutsky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.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Poems for Laughing Out Loud; A Pizza the Size of the Sun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Judith Viors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.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If I Were In Charge of the World.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Arnold Lobel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.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Random House Book of Poetry (illustrated); Whiskers &amp; Rhymes.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Kalli Dako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.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If You’re Not Hear, Please Raise Your Hand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Online Poetry Resourc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Giggle Poetry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gigglepoetry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.com/</a:t>
            </a:r>
            <a:r>
              <a:rPr b="1" lang="en-US" sz="3200" spc="-1" strike="noStrike">
                <a:solidFill>
                  <a:srgbClr val="33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e Children’s Poetry Archive</a:t>
            </a:r>
            <a:br>
              <a:rPr sz="32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http://www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poetryarchiv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org/childrensarchive/hom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.d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e Children’s Poetry Bookshelf Word Scramble</a:t>
            </a: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http://www.childrenspoetrybookshelf.co.uk/_x000b_flashgames/words.html</a:t>
            </a:r>
            <a:r>
              <a:rPr b="1" lang="en-US" sz="2400" spc="-1" strike="noStrike">
                <a:solidFill>
                  <a:srgbClr val="33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Online Magnetic Poetry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http://www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magneticpoetry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com/kidspoetry/playonlin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.cfm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hocked Poetry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0"/>
              </a:rPr>
              <a:t>http://www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1"/>
              </a:rPr>
              <a:t>shockedpoetry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2"/>
              </a:rPr>
              <a:t>.com/index.htm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560" y="6248520"/>
            <a:ext cx="82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mework Extra Credit: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http://edc425uri.wikispaces.com/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oems do more than rhyme!</a:t>
            </a:r>
            <a:br>
              <a:rPr sz="4400"/>
            </a:br>
            <a:r>
              <a:rPr b="0" lang="en-US" sz="2800" spc="-1" strike="noStrike">
                <a:solidFill>
                  <a:srgbClr val="320000"/>
                </a:solidFill>
                <a:latin typeface="Arial"/>
              </a:rPr>
              <a:t>(Hancock Chapter 5)</a:t>
            </a:r>
            <a:endParaRPr b="0" lang="en-US" sz="28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Elements of poem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hythm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hym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magery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Figurative languag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hape and Spacing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Forms of Poetry</a:t>
            </a:r>
            <a:br>
              <a:rPr sz="4400"/>
            </a:br>
            <a:r>
              <a:rPr b="0" lang="en-US" sz="2800" spc="-1" strike="noStrike">
                <a:solidFill>
                  <a:srgbClr val="320000"/>
                </a:solidFill>
                <a:latin typeface="Arial"/>
              </a:rPr>
              <a:t>(Hancock Chapter 5)</a:t>
            </a:r>
            <a:endParaRPr b="0" lang="en-US" sz="28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Narrativ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- they tell a story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Lyrical-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captures songlike qualities of language or object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Limericks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- 5 line nonsense verse with certain rhyming sequenc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Free Vers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- no patter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Haiku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- 17 syllables: 5/7/5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Concret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(e.g., acrostic, shape poems)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Key Reading Strategi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3429000"/>
            <a:ext cx="2667240" cy="13716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NITOR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ND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LARIFY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228600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EDIC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124080"/>
            <a:ext cx="2286000" cy="8384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AK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NNECTION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525780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518148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VISUALIZ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5053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UMMARIZ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019920" y="3885840"/>
            <a:ext cx="304560" cy="304920"/>
          </a:xfrm>
          <a:prstGeom prst="line">
            <a:avLst/>
          </a:prstGeom>
          <a:ln w="381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5638320" y="4800600"/>
            <a:ext cx="381240" cy="457200"/>
          </a:xfrm>
          <a:prstGeom prst="line">
            <a:avLst/>
          </a:prstGeom>
          <a:ln w="381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581280" y="4800600"/>
            <a:ext cx="381240" cy="380880"/>
          </a:xfrm>
          <a:prstGeom prst="line">
            <a:avLst/>
          </a:prstGeom>
          <a:ln w="381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3809880"/>
            <a:ext cx="380880" cy="0"/>
          </a:xfrm>
          <a:prstGeom prst="line">
            <a:avLst/>
          </a:prstGeom>
          <a:ln w="381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72000" y="2971800"/>
            <a:ext cx="0" cy="457200"/>
          </a:xfrm>
          <a:prstGeom prst="line">
            <a:avLst/>
          </a:prstGeom>
          <a:ln w="381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04:09:59Z</dcterms:created>
  <dc:creator>Julie Coiro</dc:creator>
  <dc:description/>
  <dc:language>en-US</dc:language>
  <cp:lastModifiedBy>Julie Coiro</cp:lastModifiedBy>
  <dcterms:modified xsi:type="dcterms:W3CDTF">2008-09-09T02:30:07Z</dcterms:modified>
  <cp:revision>100</cp:revision>
  <dc:subject/>
  <dc:title>Metacognitive Strategy Instruction to Enhance Reading Comprehension</dc:title>
</cp:coreProperties>
</file>